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593-730B-4910-A8AD-A3715CABE2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Mountains and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were fierce warriors who lived on the Southern Pl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s controlled the Great Plains and Central Plains of T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ibe quickly became known as the Lords of the Southern Plains, and they by far were the most powerful of all the Indian Tribes in the state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were good traders and often went to trade fai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nche leaders often wore fine European clothes, with many silver conchos and fine leather boo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 always had a leader who was very skilled as a trader and diplo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E7E-52E6-42C1-8CC8-8B4C1CB8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D68-359C-4996-86B6-1CD7D33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9846-360D-4EC9-9BDD-FA751880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299-D04B-4DAC-8ABB-2B37360C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FF46-633B-48D4-9F33-170823E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5DB-92D1-4DD4-91E0-F1ED624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34C-EB0D-46E9-951B-897B6DDE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D0E-1356-41B0-8E2D-85A0D626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F77-F14C-4B14-8204-753C42B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266-116A-4E8C-9299-BE5828E9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A30-2B55-4DAA-9772-E2144BEF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FDF-609E-42D5-975D-2806157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7F9-7B4F-4B31-A1FE-DF206342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9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97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Legion</cp:lastModifiedBy>
  <dcterms:modified xsi:type="dcterms:W3CDTF">2017-07-05T08:42:44Z</dcterms:modified>
  <cp:revision>5</cp:revision>
  <dc:subject/>
  <dc:title>People of Mountains and Plains</dc:title>
</cp:coreProperties>
</file>